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712532"/>
        <c:axId val="17280549"/>
      </c:barChart>
      <c:catAx>
        <c:axId val="147125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280549"/>
        <c:crosses val="autoZero"/>
        <c:auto val="1"/>
        <c:lblAlgn val="ctr"/>
        <c:lblOffset val="100"/>
        <c:noMultiLvlLbl val="0"/>
      </c:catAx>
      <c:valAx>
        <c:axId val="172805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7125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EEF5-B0A0-430D-92A3-E79B50C29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81B8-538D-4857-B646-F6D09C66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8BDC-14EA-404F-93AD-CF8879EC4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D457-CFB2-4BB4-A30B-22FDEAE82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0A01-6F70-4D04-AF52-EF89DA23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E0CB-D8B7-45BC-AE8E-EE43729F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4C3E-EADB-4438-88BD-0DEEB2F3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49EB-4B9D-414A-98EC-35F50AEE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DB36-6307-4C61-B0B8-2D7A2878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F634-EBBB-455B-BF50-968FB57C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9702-EE48-475E-AE17-8C30BFB3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D900-EF55-46ED-AC25-827878D2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7103C0-E569-493C-977C-4EBFDC39CE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